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6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0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8CD3-0A58-44C9-A6F3-4DC8B9BB048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7BD9C-CD5C-4FFA-B5A7-34D8DD007E1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DBCF-B27A-4D08-B71C-C7F71DFDE51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0DDB-5BE2-41FA-93EF-63624390487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334F-3890-4C88-8A6A-ADE2151FBD8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939B-3EC4-4F0B-8D51-218909571E7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E221-AF7A-431C-A80C-F70CAC12A99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D1FB-1FF0-432B-BD98-BDD3306D025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8466-397A-48C4-BC16-FDF4B1E7939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A3C7-2A37-437D-8A49-09C7ABD2F9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6CA2-4D59-4972-AC10-0C20088A49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6BF8-562A-4412-B351-4ECBA818E0F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D262E-F228-4AD5-B4F3-3CC8113DEA6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9F53-D0B6-4F8F-A33C-65907C95E4F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C5BE-7E08-4718-A089-F7A6F00EBA4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1862F-BEC7-447C-A1ED-8A8F33CA2C4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EE9E7-35B6-4373-AECD-A636884335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C182-28DC-4346-A0F1-46BFDE27274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F63C-D618-41BD-A4E1-8E7E9F49840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DB639-D933-4694-9D83-96058B36C24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DFCC-41C8-4E0B-99B8-5B64DC87031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A7BC-61F7-42B3-8B50-EC712BEE3AD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CA3C-4F4A-47A5-AD54-6609AB29AD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8D22-92A4-49D2-A89F-B3FDA8E7DCE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9FDD-C885-4450-8227-CB2CAC93A9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ADF4-901D-476C-862F-A0414D060CD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C3DC-401B-4C0A-9565-617DC7DCBF7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C30E-C23A-4F75-8FC0-023A2F2202E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A291-61EC-4E9A-941E-DFA3814378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A267-3582-4086-868B-775587E7BF2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798B-70FD-4405-BFFC-45ACB392B07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552F8-E2E3-42D4-B0FB-A59C22323A2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12F3-F35D-4740-BFAA-D440106068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FC28-4B5F-4B36-B4EB-32345B0E47D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D1F0-E283-41ED-A217-4DBD16D6F8F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881A-F528-4CC7-9F6B-503A96E35F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B49F-D74B-4202-8AAC-ADF0561F0A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A039C-974E-4BC4-B626-3C3ACBEC176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C545-5123-4942-8F44-E6C2E64B4DA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4BEA-22CB-4EB1-8184-B5BE0FFA3FC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3BED-E469-41A9-BB93-0A793FAB65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56F8-3657-4EFB-A443-A1647F3E1F8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5ABD-A9F0-4B3A-A1AD-5D1B1FE1C69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AD6D-CABF-4FFD-8F75-A22937B6056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A1C4D-CDF6-44B1-B55C-CD85CF7534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F6D5-CD5A-4884-B189-0B2B4834872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9B26D-1A30-4C45-8356-CAB02B711F5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8F81-B12A-4BD6-987F-43E4CAFB596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3349-0589-4C14-A0CD-68B8DF7F1DD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A029-B587-4128-9283-5AF00060657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F34C-C218-48E0-BF2F-E7D77E67504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2478-1FB1-4285-94A4-2B4FC8B3F7E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108B-FB7C-4A4F-B79F-581E409DA47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EC0F-70E5-4A0B-AC9C-A4D82975BF7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B578-15FE-4AEF-953C-012D08B7C26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B061-F7D2-44CF-81DC-B1547796B52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B43F-F848-4854-B653-08D8758F6C2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B6C5-1B79-4C84-8D74-1FE561E734DA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71A4-4D29-428F-83DD-55A5A2E0D63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1121-D73E-4F09-ACAD-175541BC17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435D-C31A-4CC7-91A1-32A4BA05825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1ED6-B1F1-4E79-8E6B-27F214EB75B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80FD-7DCB-4DAE-8252-D3D65CD7033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E635-6DE8-4031-8A69-AF3D72D7B96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421C-15A4-4BDE-8846-142BE0A30DA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9560-2926-4EF8-9678-5A3C015DB55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7AFC-4940-41DF-B642-E8CA727E182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81C9-C928-49B1-94F8-FAEFDCE01E6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DD00-09CA-4E9C-AE4F-002A56C2053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AB55-1E15-4DF6-B268-F3F4612B394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6A17-19F3-46F7-BA24-96F1AB37C08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1307-42B5-4941-8DE4-D308BAEC50F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E4AF-74E6-42EB-8A71-D551198F07A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B9DB-E3EE-4D80-951F-A7F6311F55B4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709B-6179-4A11-AB1A-F7A87E13CB5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9F2D-0311-4676-8413-F7EE5617CA8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49AA-BF7F-4063-BDAE-E56333CF72E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48C33-A921-42FF-90D9-00E0B358A6D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F9F1-29B6-4A49-A152-7D208668384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9866-C6DA-4432-9DAC-F292EB99635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4630-FE33-44E9-88AD-8481D396B68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8BD6-DC57-4AAA-8CE5-027FA0BFAB9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37151-5E11-46D2-A70B-A044522E0BE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A1C8-D3BE-443D-A885-7BD19C26260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283C-4F63-4061-BEDC-67A706E103F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24E6-59C4-4C35-B152-0FAA0A9CA38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3B46-5FFD-449E-A3DF-598FDD7B1849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3C9E-60D3-4FED-8C7E-13D13CC389EF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A618C-2A6B-4DC0-97E9-8905BBE883F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79100-67C6-4773-98D2-D1819464782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CF9D-E4F8-4A5E-A9E8-CE09E5E64EE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2928C-0152-41EF-83D5-7F27F867F89D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3D73-6F3E-4749-9CCA-ED99929AC88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68F1-8ED4-4847-A04D-9CA277EC79E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4E58-370D-40AC-8F4D-4AFA479A4F4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88E4-1033-4816-8A88-1576B822A77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265D-2333-47BA-B1CC-FFFB7525F89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159A-A3C8-4054-89CC-C6F5FD6A0083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5370-F40F-49EC-B45B-C62EC02AC51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D1F0-ECEA-4100-8858-B6B7E10306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6263D-3EF4-4F47-8C32-1539CDFCD3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7E7F-69BC-4804-A69B-FCE138CF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06F6-7669-45E4-8B8B-6906AE2A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3786-A40E-4F14-913E-C030E48964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6D40-A971-4B33-A71C-1D4D31D7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0A171-1A17-462E-919F-EF705C46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D63A7-C123-4CE8-9993-E8DDF74F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DA900-BACE-4EF6-BFD6-73767157A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9C34-0693-40EA-95EF-7D3DCE4A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68FB-7B21-4CCA-AB6D-A2E3649C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EF1D1-14BD-4F43-B051-909D2FE4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51C8A-1F79-40DD-BED9-13081655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2F27-A6AF-47E5-9C60-2034B5D5B3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二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生命体征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23640" y="1267920"/>
            <a:ext cx="847404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昼夜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304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用药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肺炎球菌性肺炎，口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口唇干燥，下列护理措施不妥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休息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体温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饮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放于头顶、足底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日口腔护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宜测量口腔温度的患者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躁狂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困难者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极度消瘦者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鼻手术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发的间歇脉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房室传导阻滞　 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窦性心律不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洋地黄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动过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代谢性酸中毒患者的呼吸表现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长而规则的呼吸　 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浮浅性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和呼吸暂停交替出现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和呼气均感费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中度缺氧症状，下列描述不妥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显发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凹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烦躁不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分压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0mmHg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%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单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人精神紧张时可引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升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、舒张压均无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升高，舒张压无明显变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降低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收缩压无明显变化，舒张压升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命体征的生理变化，叙述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夏天，体温和血压略增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激动时体温和血压略增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年以前女性的体温和血压高于男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老年人体温低于青年人，血压高于青年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儿的脉搏比成人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式呼吸减弱可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大量腹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巨大肿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膜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壁静脉曲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急性肾盂肾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多项选择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常见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山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先天性心脏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氧化碳中毒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慢性阻塞性肺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李某，女性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，因反复咽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月，畏寒、高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住院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格检查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 39.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 1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 2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发育正常，营养良好，应答切题，面色潮红，皮下无出血点，全身淋巴结未触及，咽部充血，两肺未闻及干、湿啰音，心脏听诊闻及病理性杂音。患者虚弱无力，不安、烦躁，影响睡眠，迫切希望症状消除，了解发热的相关知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自测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4920" y="117000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案例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患者的生命体征存在哪些问题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护士应为患者提供哪些护理措施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25092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热原因：分为感染性发热、非感染性发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程度的判断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7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超高热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1.0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热过程及症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上升期：其特点为产热大于散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持续期：其特点是产热和散热在较高水平上趋于平衡，体温维持在较高状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退热期：其特点是散热增加而产热趋于正常，体温恢复至正常的调节水平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常见热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稽留热：体温持续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达数日或数周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常见于肺炎球菌性肺炎、伤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弛张热：体温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波动范围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但最低体温仍高于正常水平。常见于败血症、风湿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热：体温骤然升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持续数小时或更长时间，又突然下降至正常水平或正常水平以下，经过一个间歇，再次发作，即高热期和无热期交替出现，常见于疟疾、成人肺结核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规则热：发热无一定规律，且持续时间不定。常见于流行性感冒、肿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补充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安全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充足的休息与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物理降温技术（详见教材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冰帽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ice cap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冷湿敷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ld moist compres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温水或乙醇拭浴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epid water sponge bath/alcohol sponge bat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冷疗方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：体温低于正常范围称为体温过低。当体温低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5 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时称为“体温不升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原因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分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的症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低患者的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05280" indent="-305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呼吸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原因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中枢发育未成熟，常见于早产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过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调节中枢受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过低的分度（以口腔温度为标准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轻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度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2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度    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 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瞳孔散大，对光反射消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死温度 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5 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的症状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寒战，面色苍白，口唇、耳垂呈紫色，四肢厥冷，心搏、呼吸减慢，血压下降，尿量减少，甚至出现意识障碍，导致昏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低患者的护理　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极进行病因治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63040" y="404640"/>
            <a:ext cx="8580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体温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热水袋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hot water bag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的使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364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种类及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玻璃汞柱式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可弃式化学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电子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感温胶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红外线体温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计的消毒与检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消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体温计的检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将水银柱甩至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5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，同时放入已测好的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以下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的水中，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后取出检测，若体温计相差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2 ℃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以上、水银柱自行下降、玻璃管有裂隙等则不能再使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温的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体温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体温的变化，分析热型及其伴随症状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诊断、预防、治疗和护理等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体温、脉搏、血压、呼吸的正常范围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发热的过程及症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氧气疗法的种类和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解释体温、脉搏、血压、呼吸的形成与调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正常体温、脉搏、血压、呼吸的生理变化及影响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异常体温、脉搏、血压、呼吸评估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928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的意识状态、心理状况及合作程度以确定测量的方法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无影响体温测量准确性的因素存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检查测体温处皮肤黏膜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5528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36120" y="105264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合理选择测量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避免影响测温的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为婴幼儿、意识不清或者不合作的患者测体温时，护理人员应当守候在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发现体温与病情不相符合时，作对照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体温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如患者不慎咬破水银温度计，应当立即清除口腔内玻璃碎片，再口服蛋清或牛奶延缓汞的吸收。若病情允许，食用富含纤维的食物以促进汞的排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甩体温计时要用腕部的力量，不可触及其他物品，以防撞碎；用离心机甩体温计时，应将体温计消毒后再放入离心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脉搏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律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脉搏的强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"/>
              </a:rPr>
              <a:t>动脉壁的情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脉搏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：正常成人在安静状态下，脉率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，与呼吸之比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脉率易受各种生理因素影响而发生变化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、情绪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药物、饮食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速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缓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间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绌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25056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脉搏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强弱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洪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替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奇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水冲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搏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脉壁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体温异常患者的护理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各项促进呼吸功能技术的操作要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不同缺氧类型的特点与原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测量生命体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情况，选择适宜的物理降温方法并按规程完成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按规程为患者进行氧气吸入疗法和吸痰操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脉搏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492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脉搏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密切观察病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丝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备好急救物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部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搏测量的部位多选择浅表、靠近骨骼的大动脉（如桡动脉、颞动脉、颈动脉、肱动脉、腘动脉、足背动脉、胫后动脉和股动脉等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脉搏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脉搏变化，间接了解心脏、动脉管壁、血容量等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诊断、预防、治疗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部位的皮肤完整性及肢体活动度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脉搏测量准确性的因素存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脉搏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脉搏测量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瘫患者应选择健侧肢体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脉搏前如有剧烈运动、紧张、恐惧、哭闹等，应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后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勿用拇指诊脉，因拇指小动脉的搏动较强，易与患者的脉搏相混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脉搏应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；脉搏细弱难以触诊时，应测心尖搏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异常呼吸的评估及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测量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呼吸的技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中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的反射性调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牵张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本体感受性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御性呼吸反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呼吸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呼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频率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。节律规则，呼吸运动均匀、无声且不费力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：环境温度过高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率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律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体温的评估及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体温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深度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深度呼吸：又称库斯莫尔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浅快呼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声音异常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蝉鸣样呼吸：常见于喉头水肿、痉挛、喉头异物等浅快呼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鼾声呼吸：由于气管或支气管内有较多的分泌物积蓄所致，表现为呼吸时发出一种粗大的鼾声，多见于昏迷和神经系统疾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呼吸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困难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气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混合性呼吸困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舒适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营养和水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判断呼吸有无异常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动态监测呼吸变化，了解患者呼吸功能的情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患者的一般情况如年龄、病情、临床诊断、治疗及呼吸状况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呼吸测量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的频率会受到意识的影响，测量时不必告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患者有紧张、剧烈运动、哭闹等，需稳定后测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危重患者呼吸微弱，可用少许棉花置于患者鼻孔前，观察棉花被吹动的次数，计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促进呼吸功能的技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197000"/>
            <a:ext cx="84740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效咳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叩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位引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湿化和雾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吸痰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形成及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热与散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7640" y="1125000"/>
            <a:ext cx="8785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患者呼吸道分泌物，保持呼吸道畅通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呼吸功能，改善肺通气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并发症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腔黏膜是否正常，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呼吸状况，有无呼吸困难、痰鸣音等，以及患者自行排痰的能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反应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操作要点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执行无菌操作，治疗盘内吸痰用物每日更换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吸痰导管每次更换，贮液瓶及连接导管每日进行清洁消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液瓶内应先放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毒液，瓶内吸入液不宜过满，应及时倾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吸痰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气管插管或气管切开患者由插管或套管内插入，气管切开患者吸痰时应严格按无菌操作进行，先吸气管切开处，再吸口腔或鼻腔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次吸痰时间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，以免造成缺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痰液黏稠，可叩拍胸背或交替使用超声雾化吸入，气管插管或气管切开者还可缓慢滴入氯化钠溶液或化痰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560" y="1125000"/>
            <a:ext cx="84740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的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张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组织性缺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34800" y="1197000"/>
            <a:ext cx="8474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缺氧程度：见表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-3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8" name="矩形 1"/>
          <p:cNvSpPr/>
          <p:nvPr/>
        </p:nvSpPr>
        <p:spPr>
          <a:xfrm>
            <a:off x="4147920" y="32446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</a:rPr>
              <a:t>氧疗方法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58920" y="2133720"/>
          <a:ext cx="8785080" cy="4433760"/>
        </p:xfrm>
        <a:graphic>
          <a:graphicData uri="http://schemas.openxmlformats.org/drawingml/2006/table">
            <a:tbl>
              <a:tblPr/>
              <a:tblGrid>
                <a:gridCol w="626760"/>
                <a:gridCol w="1722600"/>
                <a:gridCol w="1724040"/>
                <a:gridCol w="1384200"/>
                <a:gridCol w="1057320"/>
                <a:gridCol w="1135080"/>
                <a:gridCol w="1135080"/>
              </a:tblGrid>
              <a:tr h="69516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程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血气分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困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神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S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%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PaCO</a:t>
                      </a:r>
                      <a:r>
                        <a:rPr b="1" lang="en-US" sz="1800" spc="-1" strike="noStrike" baseline="-25000">
                          <a:solidFill>
                            <a:srgbClr val="046ca6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kPa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轻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清楚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&gt;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95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中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或烦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8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.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82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重度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显著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、三凹征明显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昏迷或半昏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＜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4.6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＞</a:t>
                      </a: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1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活量减少因呼吸系统疾病而影响肺活量者。如哮喘、支气管肺炎、气胸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肺功能不全使肺部充血而致呼吸困难者。如心力衰竭时出现的呼吸困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23640" y="1196640"/>
            <a:ext cx="847404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的产热器官为肝和骨骼肌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散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散热的重要方式有辐射、传导、对流和蒸发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34800" y="1125000"/>
            <a:ext cx="8474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适应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不能由毛细血管渗入组织而产生缺氧。如一氧化碳中毒、巴比妥类药物中毒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患者如脑血管意外、颅脑损伤等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如某些外科手术前后患者、大出血休克患者、分娩时产程过长或胎心音不良的产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气吸入法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压力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给氧浓度分为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浓度氧疗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23640" y="1341360"/>
            <a:ext cx="847404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供氧装置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与氧气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供氧装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压舱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给氧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塞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罩法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氧气吸入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技术（以鼻塞法为例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程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纠正各种原因造成的缺氧状态，提高动脉血氧分压和动脉血氧饱和度，增加动脉血氧含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组织新陈代谢，维持机体的生命活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病情、意识状态、治疗和护理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缺氧状况、血气分析结果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呼吸道是否畅通、鼻腔黏膜情况及有无鼻中隔弯曲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况及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程序：详见教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操作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遵守操作规程，注意用氧安全，切实做好“四防”：即防震、防火、防热、防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氧过程中，正确评估患者脉搏、血压、精神状态等有无改善，衡量氧疗效果，选择适当的用氧浓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鼻塞法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鼻导管持续用氧者，每日更换导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双侧鼻孔交替插管。及时清除鼻腔分泌物，防止导管阻塞而失去用氧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筒内氧气不可用尽，压力表指针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5 MP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kg/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时即不可再用，以防再次充氧时引起爆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23640" y="1268280"/>
            <a:ext cx="847404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的调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性调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2364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缺氧症状：患者由烦躁不安变为安静、心率变慢、血压上升、呼吸平稳、皮肤红润温暖、发绀消失，说明缺氧症状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验室检查：主要观察氧疗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a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呼吸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氧疗监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气装置：有无漏气，是否通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疗的副作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氧中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不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抑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晶状体后纤维组织增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道分泌物干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血压的评估与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及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测量技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形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及生理性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血压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搏输出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周阻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循环血容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的黏滞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管壁的弹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血压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量血压一般以肱动脉血压为标准。正常成人安静状态下的血压范围为收缩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2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舒张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脉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血压及生理性变化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变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性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昼夜和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800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在未使用降压药物的情况下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以上成年人收缩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（或）舒张压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B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分为原发性高血压与继发性高血压两大类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血压分类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23640" y="1267920"/>
            <a:ext cx="847404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体温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正常体温及生理性变化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755640" y="2637000"/>
          <a:ext cx="8077320" cy="1728720"/>
        </p:xfrm>
        <a:graphic>
          <a:graphicData uri="http://schemas.openxmlformats.org/drawingml/2006/table">
            <a:tbl>
              <a:tblPr/>
              <a:tblGrid>
                <a:gridCol w="1978200"/>
                <a:gridCol w="3582720"/>
                <a:gridCol w="2516400"/>
              </a:tblGrid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部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正常范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平均值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口腔（舌下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腋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直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2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3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6.8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9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8.6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6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7.7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37.5℃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（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99.5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℉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异常血压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低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0/60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称为低血压。常见于大量出血、休克、急性心力衰竭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异常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增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脉压减小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异常血压的评估及护理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异常患者的护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良好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饮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规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控制情绪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坚持运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强监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要有水银血压计、无液血压计和电子血压计三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计的构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加压气球及压力活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袖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压计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判断血压有无异常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态监测血压变化，间接了解循环系统的功能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诊断，为预防、治疗、康复和护理提供依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一般情况，如年龄、病情、临床诊断、治疗情况及既往基础血压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测肢体功能情况及测量部位皮肤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无影响血压测量准确性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的心理状态与合作程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压的测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前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物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准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要点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期检测、校对血压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现血压听不清或异常，应重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测压装置（血压计、听诊器）、测量者、受检者、测量环境等因素引起血压测量的误差，以保证测量血压的准确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血压测量技术</a:t>
            </a:r>
            <a:br>
              <a:rPr sz="4400"/>
            </a:b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94920" y="1341360"/>
            <a:ext cx="84740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285840">
              <a:spcBef>
                <a:spcPts val="601"/>
              </a:spcBef>
              <a:buClr>
                <a:srgbClr val="8ac8de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照中国高血压防治指南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版）对血压测量的要求进行测量：应相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重复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如果收缩压或舒张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相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 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上，应再次测量，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读数的平均值记录。首诊时要测量两上臂血压，以后通常测量较高读数一侧的上臂血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57:43Z</dcterms:modified>
  <cp:revision>161</cp:revision>
  <dc:subject/>
  <dc:title>内科护理学</dc:title>
</cp:coreProperties>
</file>